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7FFA-D454-4101-ACB6-30B2CEB4C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2C98-103B-4FB7-BB05-B0F5FB6FE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A729-C07D-4332-8291-E5F1ADDEC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D74C-9929-47DD-A47D-6ED3E8AF4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7283-6724-489E-BD9F-6E62032EF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973D-F9A8-4064-B483-BC2D3CE8F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09E9-CF4B-4146-9415-0DDA3F273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0BF7-C4A7-475A-B118-966C68CEB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FB78-0346-42D7-AB20-978D173CE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7443-A1B5-44E1-8259-EB3C2487F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8691-44E9-4726-8A62-22D588ED7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2AE2-5A88-4419-ACE7-1E7CBAF56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AD66-4ACB-482E-9342-617541F25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2C9A-7017-4044-BFB5-5027BF6C1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1251-F667-4363-B3C0-A7CE49771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24B6-8E0C-4CF1-9D32-7D1CA297B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11E1-643B-455B-B63B-F1116D9FF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A17D-88D1-4F17-BC12-9B8ECAF8E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2FFE-53DA-4DA5-B181-8F53FD1FB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6F53-13F3-40EC-8753-AB8F93B77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5731-5857-4FB4-9EB4-E35F4E6A1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FD18-8739-4DBE-8BF1-731787644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9964-AF26-4C72-91D0-3E7E784AA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1C54-CB82-4F84-A5E9-6B57F318E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54B4-1C1B-4C33-BE23-6408446FA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749E-1A60-49C2-AE47-BD5BBF0CF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F834-E5AF-435E-9BDB-26F5FEBAE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7CD7-2EA7-421D-B9DF-BB25BD740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9F52-8BE2-4289-AB44-B3F0532E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7D17-462F-4E95-A114-479ACB7B5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40D2-D102-4EAB-A939-50F3F070B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ABF7-CE18-46F8-99CC-78E67B95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76D2-0C06-455F-B8E3-28D2CBB1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9653-7736-4AF8-85CD-8242C028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A36B-6C17-454E-8DBD-955D2C4B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9A01-31E2-4592-9020-AED07C0E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661A-3E33-4FB9-BE34-C0210122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95A7-FDF2-484E-A790-E7CBA321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0631-2E5B-44E8-A557-9B1656E5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F760-794B-4F9E-8961-6A9BE9191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" Target="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9"/>
          <p:cNvSpPr/>
          <p:nvPr/>
        </p:nvSpPr>
        <p:spPr>
          <a:xfrm>
            <a:off x="4876920" y="312408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l fait chau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4956840" y="4267080"/>
            <a:ext cx="218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l pleu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4957920" y="5257800"/>
            <a:ext cx="303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l fait fro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9">
            <a:hlinkClick r:id="rId1" action="ppaction://hlinksldjump"/>
          </p:cNvPr>
          <p:cNvSpPr/>
          <p:nvPr/>
        </p:nvSpPr>
        <p:spPr>
          <a:xfrm>
            <a:off x="3733920" y="3276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0">
            <a:hlinkClick r:id="rId2" action="ppaction://hlinksldjump"/>
          </p:cNvPr>
          <p:cNvSpPr/>
          <p:nvPr/>
        </p:nvSpPr>
        <p:spPr>
          <a:xfrm>
            <a:off x="3733920" y="43434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2">
            <a:hlinkClick r:id="" action="ppaction://hlinkshowjump?jump=nextslide"/>
          </p:cNvPr>
          <p:cNvSpPr/>
          <p:nvPr/>
        </p:nvSpPr>
        <p:spPr>
          <a:xfrm>
            <a:off x="3733920" y="54100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5" descr="C:\Users\owner\Desktop\21746349_jpg_files\21746349.jpg"/>
          <p:cNvPicPr/>
          <p:nvPr/>
        </p:nvPicPr>
        <p:blipFill>
          <a:blip r:embed="rId3"/>
          <a:stretch/>
        </p:blipFill>
        <p:spPr>
          <a:xfrm>
            <a:off x="685800" y="380880"/>
            <a:ext cx="2998800" cy="2667240"/>
          </a:xfrm>
          <a:prstGeom prst="rect">
            <a:avLst/>
          </a:prstGeom>
          <a:ln w="0">
            <a:noFill/>
          </a:ln>
        </p:spPr>
      </p:pic>
      <p:sp>
        <p:nvSpPr>
          <p:cNvPr id="55" name="TextBox 8"/>
          <p:cNvSpPr/>
          <p:nvPr/>
        </p:nvSpPr>
        <p:spPr>
          <a:xfrm>
            <a:off x="7474320" y="653580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5"/>
          <p:cNvSpPr/>
          <p:nvPr/>
        </p:nvSpPr>
        <p:spPr>
          <a:xfrm>
            <a:off x="3345480" y="3246480"/>
            <a:ext cx="4080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l pleu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l gè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l fait be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l y a du v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>
            <a:hlinkClick r:id="rId1" action="ppaction://hlinksldjump"/>
          </p:cNvPr>
          <p:cNvSpPr/>
          <p:nvPr/>
        </p:nvSpPr>
        <p:spPr>
          <a:xfrm>
            <a:off x="2819520" y="3352680"/>
            <a:ext cx="509400" cy="66204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662040"/>
              <a:gd name="textAreaBottom" fmla="*/ 629280 h 662040"/>
            </a:gdLst>
            <a:ahLst/>
            <a:rect l="textAreaLeft" t="textAreaTop" r="textAreaRight" b="textAreaBottom"/>
            <a:pathLst>
              <a:path w="21600" h="28068">
                <a:moveTo>
                  <a:pt x="0" y="0"/>
                </a:moveTo>
                <a:lnTo>
                  <a:pt x="21600" y="0"/>
                </a:lnTo>
                <a:lnTo>
                  <a:pt x="21600" y="28068"/>
                </a:lnTo>
                <a:lnTo>
                  <a:pt x="0" y="28068"/>
                </a:lnTo>
                <a:close/>
              </a:path>
              <a:path fill="lightenLess" w="21600" h="280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068">
                <a:moveTo>
                  <a:pt x="21600" y="0"/>
                </a:moveTo>
                <a:lnTo>
                  <a:pt x="21600" y="28068"/>
                </a:lnTo>
                <a:lnTo>
                  <a:pt x="20200" y="26668"/>
                </a:lnTo>
                <a:lnTo>
                  <a:pt x="20200" y="1400"/>
                </a:lnTo>
                <a:close/>
              </a:path>
              <a:path fill="darkenLess" w="21600" h="28068">
                <a:moveTo>
                  <a:pt x="21600" y="28068"/>
                </a:moveTo>
                <a:lnTo>
                  <a:pt x="0" y="28068"/>
                </a:lnTo>
                <a:lnTo>
                  <a:pt x="1400" y="26668"/>
                </a:lnTo>
                <a:lnTo>
                  <a:pt x="20200" y="26668"/>
                </a:lnTo>
                <a:close/>
              </a:path>
              <a:path fill="lighten" w="21600" h="28068">
                <a:moveTo>
                  <a:pt x="0" y="280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668"/>
                </a:lnTo>
                <a:close/>
              </a:path>
              <a:path fill="darken" w="21600" h="28068">
                <a:moveTo>
                  <a:pt x="3794" y="7027"/>
                </a:moveTo>
                <a:lnTo>
                  <a:pt x="17806" y="14034"/>
                </a:lnTo>
                <a:lnTo>
                  <a:pt x="3794" y="2104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>
            <a:hlinkClick r:id="rId2" action="ppaction://hlinksldjump"/>
          </p:cNvPr>
          <p:cNvSpPr/>
          <p:nvPr/>
        </p:nvSpPr>
        <p:spPr>
          <a:xfrm>
            <a:off x="2819520" y="4114800"/>
            <a:ext cx="509400" cy="58572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34">
                <a:moveTo>
                  <a:pt x="0" y="0"/>
                </a:moveTo>
                <a:lnTo>
                  <a:pt x="21600" y="0"/>
                </a:lnTo>
                <a:lnTo>
                  <a:pt x="21600" y="24834"/>
                </a:lnTo>
                <a:lnTo>
                  <a:pt x="0" y="24834"/>
                </a:lnTo>
                <a:close/>
              </a:path>
              <a:path fill="lightenLess" w="21600" h="248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34">
                <a:moveTo>
                  <a:pt x="21600" y="0"/>
                </a:moveTo>
                <a:lnTo>
                  <a:pt x="21600" y="24834"/>
                </a:lnTo>
                <a:lnTo>
                  <a:pt x="20200" y="23434"/>
                </a:lnTo>
                <a:lnTo>
                  <a:pt x="20200" y="1400"/>
                </a:lnTo>
                <a:close/>
              </a:path>
              <a:path fill="darkenLess" w="21600" h="24834">
                <a:moveTo>
                  <a:pt x="21600" y="24834"/>
                </a:moveTo>
                <a:lnTo>
                  <a:pt x="0" y="24834"/>
                </a:lnTo>
                <a:lnTo>
                  <a:pt x="1400" y="23434"/>
                </a:lnTo>
                <a:lnTo>
                  <a:pt x="20200" y="23434"/>
                </a:lnTo>
                <a:close/>
              </a:path>
              <a:path fill="lighten" w="21600" h="24834">
                <a:moveTo>
                  <a:pt x="0" y="248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34"/>
                </a:lnTo>
                <a:close/>
              </a:path>
              <a:path fill="darken" w="21600" h="24834">
                <a:moveTo>
                  <a:pt x="3794" y="5410"/>
                </a:moveTo>
                <a:lnTo>
                  <a:pt x="17806" y="12417"/>
                </a:lnTo>
                <a:lnTo>
                  <a:pt x="3794" y="1942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>
            <a:hlinkClick r:id="rId3" action="ppaction://hlinksldjump"/>
          </p:cNvPr>
          <p:cNvSpPr/>
          <p:nvPr/>
        </p:nvSpPr>
        <p:spPr>
          <a:xfrm>
            <a:off x="2819520" y="4800600"/>
            <a:ext cx="509400" cy="58572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34">
                <a:moveTo>
                  <a:pt x="0" y="0"/>
                </a:moveTo>
                <a:lnTo>
                  <a:pt x="21600" y="0"/>
                </a:lnTo>
                <a:lnTo>
                  <a:pt x="21600" y="24834"/>
                </a:lnTo>
                <a:lnTo>
                  <a:pt x="0" y="24834"/>
                </a:lnTo>
                <a:close/>
              </a:path>
              <a:path fill="lightenLess" w="21600" h="248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34">
                <a:moveTo>
                  <a:pt x="21600" y="0"/>
                </a:moveTo>
                <a:lnTo>
                  <a:pt x="21600" y="24834"/>
                </a:lnTo>
                <a:lnTo>
                  <a:pt x="20200" y="23434"/>
                </a:lnTo>
                <a:lnTo>
                  <a:pt x="20200" y="1400"/>
                </a:lnTo>
                <a:close/>
              </a:path>
              <a:path fill="darkenLess" w="21600" h="24834">
                <a:moveTo>
                  <a:pt x="21600" y="24834"/>
                </a:moveTo>
                <a:lnTo>
                  <a:pt x="0" y="24834"/>
                </a:lnTo>
                <a:lnTo>
                  <a:pt x="1400" y="23434"/>
                </a:lnTo>
                <a:lnTo>
                  <a:pt x="20200" y="23434"/>
                </a:lnTo>
                <a:close/>
              </a:path>
              <a:path fill="lighten" w="21600" h="24834">
                <a:moveTo>
                  <a:pt x="0" y="248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34"/>
                </a:lnTo>
                <a:close/>
              </a:path>
              <a:path fill="darken" w="21600" h="24834">
                <a:moveTo>
                  <a:pt x="3794" y="5410"/>
                </a:moveTo>
                <a:lnTo>
                  <a:pt x="17806" y="12417"/>
                </a:lnTo>
                <a:lnTo>
                  <a:pt x="3794" y="1942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>
            <a:hlinkClick r:id="rId4" action="ppaction://hlinksldjump"/>
          </p:cNvPr>
          <p:cNvSpPr/>
          <p:nvPr/>
        </p:nvSpPr>
        <p:spPr>
          <a:xfrm>
            <a:off x="2819520" y="5486400"/>
            <a:ext cx="509400" cy="58572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34">
                <a:moveTo>
                  <a:pt x="0" y="0"/>
                </a:moveTo>
                <a:lnTo>
                  <a:pt x="21600" y="0"/>
                </a:lnTo>
                <a:lnTo>
                  <a:pt x="21600" y="24834"/>
                </a:lnTo>
                <a:lnTo>
                  <a:pt x="0" y="24834"/>
                </a:lnTo>
                <a:close/>
              </a:path>
              <a:path fill="lightenLess" w="21600" h="248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34">
                <a:moveTo>
                  <a:pt x="21600" y="0"/>
                </a:moveTo>
                <a:lnTo>
                  <a:pt x="21600" y="24834"/>
                </a:lnTo>
                <a:lnTo>
                  <a:pt x="20200" y="23434"/>
                </a:lnTo>
                <a:lnTo>
                  <a:pt x="20200" y="1400"/>
                </a:lnTo>
                <a:close/>
              </a:path>
              <a:path fill="darkenLess" w="21600" h="24834">
                <a:moveTo>
                  <a:pt x="21600" y="24834"/>
                </a:moveTo>
                <a:lnTo>
                  <a:pt x="0" y="24834"/>
                </a:lnTo>
                <a:lnTo>
                  <a:pt x="1400" y="23434"/>
                </a:lnTo>
                <a:lnTo>
                  <a:pt x="20200" y="23434"/>
                </a:lnTo>
                <a:close/>
              </a:path>
              <a:path fill="lighten" w="21600" h="24834">
                <a:moveTo>
                  <a:pt x="0" y="248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34"/>
                </a:lnTo>
                <a:close/>
              </a:path>
              <a:path fill="darken" w="21600" h="24834">
                <a:moveTo>
                  <a:pt x="3794" y="5410"/>
                </a:moveTo>
                <a:lnTo>
                  <a:pt x="17806" y="12417"/>
                </a:lnTo>
                <a:lnTo>
                  <a:pt x="3794" y="1942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0" descr="C:\Users\owner\Desktop\rain_jpg_files\20677057.jpg"/>
          <p:cNvPicPr/>
          <p:nvPr/>
        </p:nvPicPr>
        <p:blipFill>
          <a:blip r:embed="rId5"/>
          <a:stretch/>
        </p:blipFill>
        <p:spPr>
          <a:xfrm>
            <a:off x="685800" y="380880"/>
            <a:ext cx="1981080" cy="29829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7"/>
          <p:cNvSpPr/>
          <p:nvPr/>
        </p:nvSpPr>
        <p:spPr>
          <a:xfrm>
            <a:off x="7474320" y="647712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5"/>
          <p:cNvSpPr txBox="1"/>
          <p:nvPr/>
        </p:nvSpPr>
        <p:spPr>
          <a:xfrm>
            <a:off x="1143000" y="762120"/>
            <a:ext cx="3666960" cy="14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u gagnes!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AutoShape 6">
            <a:hlinkClick r:id="rId3" action="ppaction://hlinksldjump"/>
          </p:cNvPr>
          <p:cNvSpPr/>
          <p:nvPr/>
        </p:nvSpPr>
        <p:spPr>
          <a:xfrm>
            <a:off x="6858000" y="3200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C:\Users\owner\Desktop\happy_jpg_files\yellow Ahappy.jpg"/>
          <p:cNvPicPr/>
          <p:nvPr/>
        </p:nvPicPr>
        <p:blipFill>
          <a:blip r:embed="rId4"/>
          <a:stretch/>
        </p:blipFill>
        <p:spPr>
          <a:xfrm>
            <a:off x="1676520" y="2666880"/>
            <a:ext cx="3343320" cy="34149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7474320" y="647712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844200" y="4572000"/>
            <a:ext cx="546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on, recomm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5">
            <a:hlinkClick r:id="" action="ppaction://hlinkshowjump?jump=previousslide"/>
          </p:cNvPr>
          <p:cNvSpPr/>
          <p:nvPr/>
        </p:nvSpPr>
        <p:spPr>
          <a:xfrm>
            <a:off x="7086600" y="4343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C:\Users\owner\Desktop\sad_jpg_files\22438264Y.jpg"/>
          <p:cNvPicPr/>
          <p:nvPr/>
        </p:nvPicPr>
        <p:blipFill>
          <a:blip r:embed="rId1"/>
          <a:stretch/>
        </p:blipFill>
        <p:spPr>
          <a:xfrm>
            <a:off x="1066680" y="685800"/>
            <a:ext cx="3571920" cy="36385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6"/>
          <p:cNvSpPr/>
          <p:nvPr/>
        </p:nvSpPr>
        <p:spPr>
          <a:xfrm>
            <a:off x="5081760" y="1523880"/>
            <a:ext cx="280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597a0"/>
                </a:solidFill>
                <a:latin typeface="Arial"/>
              </a:rPr>
              <a:t>Tant pi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7474320" y="647712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5"/>
          <p:cNvSpPr/>
          <p:nvPr/>
        </p:nvSpPr>
        <p:spPr>
          <a:xfrm>
            <a:off x="1150920" y="2895480"/>
            <a:ext cx="5199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l y a du brouilla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l nei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’est l’autom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l fait b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>
            <a:hlinkClick r:id="" action="ppaction://hlinkshowjump?jump=nextslide"/>
          </p:cNvPr>
          <p:cNvSpPr/>
          <p:nvPr/>
        </p:nvSpPr>
        <p:spPr>
          <a:xfrm>
            <a:off x="457200" y="3048120"/>
            <a:ext cx="662040" cy="585720"/>
          </a:xfrm>
          <a:custGeom>
            <a:avLst/>
            <a:gdLst>
              <a:gd name="textAreaLeft" fmla="*/ 37800 w 662040"/>
              <a:gd name="textAreaRight" fmla="*/ 624240 w 66204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4413" h="21600">
                <a:moveTo>
                  <a:pt x="0" y="0"/>
                </a:moveTo>
                <a:lnTo>
                  <a:pt x="24413" y="0"/>
                </a:lnTo>
                <a:lnTo>
                  <a:pt x="24413" y="21600"/>
                </a:lnTo>
                <a:lnTo>
                  <a:pt x="0" y="21600"/>
                </a:lnTo>
                <a:close/>
              </a:path>
              <a:path fill="lightenLess" w="24413" h="21600">
                <a:moveTo>
                  <a:pt x="0" y="0"/>
                </a:moveTo>
                <a:lnTo>
                  <a:pt x="24413" y="0"/>
                </a:lnTo>
                <a:lnTo>
                  <a:pt x="23013" y="1400"/>
                </a:lnTo>
                <a:lnTo>
                  <a:pt x="1400" y="1400"/>
                </a:lnTo>
                <a:close/>
              </a:path>
              <a:path fill="darken" w="24413" h="21600">
                <a:moveTo>
                  <a:pt x="24413" y="0"/>
                </a:moveTo>
                <a:lnTo>
                  <a:pt x="24413" y="21600"/>
                </a:lnTo>
                <a:lnTo>
                  <a:pt x="23013" y="20200"/>
                </a:lnTo>
                <a:lnTo>
                  <a:pt x="23013" y="1400"/>
                </a:lnTo>
                <a:close/>
              </a:path>
              <a:path fill="darkenLess" w="24413" h="21600">
                <a:moveTo>
                  <a:pt x="24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13" y="20200"/>
                </a:lnTo>
                <a:close/>
              </a:path>
              <a:path fill="lighten" w="24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13" h="21600">
                <a:moveTo>
                  <a:pt x="5200" y="3794"/>
                </a:moveTo>
                <a:lnTo>
                  <a:pt x="19213" y="10800"/>
                </a:lnTo>
                <a:lnTo>
                  <a:pt x="5200" y="17806"/>
                </a:lnTo>
                <a:close/>
              </a:path>
            </a:pathLst>
          </a:custGeom>
          <a:solidFill>
            <a:srgbClr val="17c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>
            <a:hlinkClick r:id="" action="ppaction://hlinkshowjump?jump=nextslide"/>
          </p:cNvPr>
          <p:cNvSpPr/>
          <p:nvPr/>
        </p:nvSpPr>
        <p:spPr>
          <a:xfrm>
            <a:off x="457200" y="3733920"/>
            <a:ext cx="662040" cy="585720"/>
          </a:xfrm>
          <a:custGeom>
            <a:avLst/>
            <a:gdLst>
              <a:gd name="textAreaLeft" fmla="*/ 37800 w 662040"/>
              <a:gd name="textAreaRight" fmla="*/ 624240 w 66204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4413" h="21600">
                <a:moveTo>
                  <a:pt x="0" y="0"/>
                </a:moveTo>
                <a:lnTo>
                  <a:pt x="24413" y="0"/>
                </a:lnTo>
                <a:lnTo>
                  <a:pt x="24413" y="21600"/>
                </a:lnTo>
                <a:lnTo>
                  <a:pt x="0" y="21600"/>
                </a:lnTo>
                <a:close/>
              </a:path>
              <a:path fill="lightenLess" w="24413" h="21600">
                <a:moveTo>
                  <a:pt x="0" y="0"/>
                </a:moveTo>
                <a:lnTo>
                  <a:pt x="24413" y="0"/>
                </a:lnTo>
                <a:lnTo>
                  <a:pt x="23013" y="1400"/>
                </a:lnTo>
                <a:lnTo>
                  <a:pt x="1400" y="1400"/>
                </a:lnTo>
                <a:close/>
              </a:path>
              <a:path fill="darken" w="24413" h="21600">
                <a:moveTo>
                  <a:pt x="24413" y="0"/>
                </a:moveTo>
                <a:lnTo>
                  <a:pt x="24413" y="21600"/>
                </a:lnTo>
                <a:lnTo>
                  <a:pt x="23013" y="20200"/>
                </a:lnTo>
                <a:lnTo>
                  <a:pt x="23013" y="1400"/>
                </a:lnTo>
                <a:close/>
              </a:path>
              <a:path fill="darkenLess" w="24413" h="21600">
                <a:moveTo>
                  <a:pt x="24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13" y="20200"/>
                </a:lnTo>
                <a:close/>
              </a:path>
              <a:path fill="lighten" w="24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13" h="21600">
                <a:moveTo>
                  <a:pt x="5200" y="3794"/>
                </a:moveTo>
                <a:lnTo>
                  <a:pt x="19213" y="10800"/>
                </a:lnTo>
                <a:lnTo>
                  <a:pt x="5200" y="17806"/>
                </a:lnTo>
                <a:close/>
              </a:path>
            </a:pathLst>
          </a:custGeom>
          <a:solidFill>
            <a:srgbClr val="17c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>
            <a:hlinkClick r:id="" action="ppaction://hlinkshowjump?jump=nextslide"/>
          </p:cNvPr>
          <p:cNvSpPr/>
          <p:nvPr/>
        </p:nvSpPr>
        <p:spPr>
          <a:xfrm>
            <a:off x="457200" y="4419720"/>
            <a:ext cx="662040" cy="585720"/>
          </a:xfrm>
          <a:custGeom>
            <a:avLst/>
            <a:gdLst>
              <a:gd name="textAreaLeft" fmla="*/ 37800 w 662040"/>
              <a:gd name="textAreaRight" fmla="*/ 624240 w 66204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4413" h="21600">
                <a:moveTo>
                  <a:pt x="0" y="0"/>
                </a:moveTo>
                <a:lnTo>
                  <a:pt x="24413" y="0"/>
                </a:lnTo>
                <a:lnTo>
                  <a:pt x="24413" y="21600"/>
                </a:lnTo>
                <a:lnTo>
                  <a:pt x="0" y="21600"/>
                </a:lnTo>
                <a:close/>
              </a:path>
              <a:path fill="lightenLess" w="24413" h="21600">
                <a:moveTo>
                  <a:pt x="0" y="0"/>
                </a:moveTo>
                <a:lnTo>
                  <a:pt x="24413" y="0"/>
                </a:lnTo>
                <a:lnTo>
                  <a:pt x="23013" y="1400"/>
                </a:lnTo>
                <a:lnTo>
                  <a:pt x="1400" y="1400"/>
                </a:lnTo>
                <a:close/>
              </a:path>
              <a:path fill="darken" w="24413" h="21600">
                <a:moveTo>
                  <a:pt x="24413" y="0"/>
                </a:moveTo>
                <a:lnTo>
                  <a:pt x="24413" y="21600"/>
                </a:lnTo>
                <a:lnTo>
                  <a:pt x="23013" y="20200"/>
                </a:lnTo>
                <a:lnTo>
                  <a:pt x="23013" y="1400"/>
                </a:lnTo>
                <a:close/>
              </a:path>
              <a:path fill="darkenLess" w="24413" h="21600">
                <a:moveTo>
                  <a:pt x="24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13" y="20200"/>
                </a:lnTo>
                <a:close/>
              </a:path>
              <a:path fill="lighten" w="24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13" h="21600">
                <a:moveTo>
                  <a:pt x="5200" y="3794"/>
                </a:moveTo>
                <a:lnTo>
                  <a:pt x="19213" y="10800"/>
                </a:lnTo>
                <a:lnTo>
                  <a:pt x="5200" y="17806"/>
                </a:lnTo>
                <a:close/>
              </a:path>
            </a:pathLst>
          </a:custGeom>
          <a:solidFill>
            <a:srgbClr val="17c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9">
            <a:hlinkClick r:id="rId1" action="ppaction://hlinksldjump"/>
          </p:cNvPr>
          <p:cNvSpPr/>
          <p:nvPr/>
        </p:nvSpPr>
        <p:spPr>
          <a:xfrm>
            <a:off x="457200" y="5105520"/>
            <a:ext cx="662040" cy="66204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17c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C:\Users\owner\Desktop\bon_jpg_files\20453288.jpg"/>
          <p:cNvPicPr/>
          <p:nvPr/>
        </p:nvPicPr>
        <p:blipFill>
          <a:blip r:embed="rId2"/>
          <a:stretch/>
        </p:blipFill>
        <p:spPr>
          <a:xfrm>
            <a:off x="838080" y="304920"/>
            <a:ext cx="2286000" cy="25444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7"/>
          <p:cNvSpPr/>
          <p:nvPr/>
        </p:nvSpPr>
        <p:spPr>
          <a:xfrm>
            <a:off x="7474320" y="647712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4"/>
          <p:cNvSpPr txBox="1"/>
          <p:nvPr/>
        </p:nvSpPr>
        <p:spPr>
          <a:xfrm>
            <a:off x="1066680" y="609480"/>
            <a:ext cx="5133960" cy="123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Lucida Calligraphy"/>
              </a:rPr>
              <a:t>Dommage!</a:t>
            </a:r>
            <a:endParaRPr b="0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Lucida Calligraphy"/>
              <a:ea typeface="Lucida Calligraphy"/>
            </a:endParaRPr>
          </a:p>
        </p:txBody>
      </p:sp>
      <p:sp>
        <p:nvSpPr>
          <p:cNvPr id="120" name="AutoShape 5">
            <a:hlinkClick r:id="" action="ppaction://hlinkshowjump?jump=previousslide"/>
          </p:cNvPr>
          <p:cNvSpPr/>
          <p:nvPr/>
        </p:nvSpPr>
        <p:spPr>
          <a:xfrm>
            <a:off x="6705720" y="342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C:\Users\owner\Desktop\sad_jpg_files\22438264.jpg"/>
          <p:cNvPicPr/>
          <p:nvPr/>
        </p:nvPicPr>
        <p:blipFill>
          <a:blip r:embed="rId1"/>
          <a:stretch/>
        </p:blipFill>
        <p:spPr>
          <a:xfrm>
            <a:off x="1371600" y="2209680"/>
            <a:ext cx="3495600" cy="35607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7474320" y="647712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4"/>
          <p:cNvSpPr txBox="1"/>
          <p:nvPr/>
        </p:nvSpPr>
        <p:spPr>
          <a:xfrm>
            <a:off x="2438280" y="1981080"/>
            <a:ext cx="632484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7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Andy"/>
              </a:rPr>
              <a:t>Félicitations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Andy"/>
              <a:ea typeface="Andy"/>
            </a:endParaRPr>
          </a:p>
        </p:txBody>
      </p:sp>
      <p:sp>
        <p:nvSpPr>
          <p:cNvPr id="124" name="AutoShape 5">
            <a:hlinkClick r:id="" action="ppaction://hlinkshowjump?jump=nextslide"/>
          </p:cNvPr>
          <p:cNvSpPr/>
          <p:nvPr/>
        </p:nvSpPr>
        <p:spPr>
          <a:xfrm>
            <a:off x="42670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C:\Users\owner\Desktop\happy_jpg_files\yellow happy.jpg"/>
          <p:cNvPicPr/>
          <p:nvPr/>
        </p:nvPicPr>
        <p:blipFill>
          <a:blip r:embed="rId1"/>
          <a:stretch/>
        </p:blipFill>
        <p:spPr>
          <a:xfrm>
            <a:off x="533520" y="304920"/>
            <a:ext cx="2886120" cy="29480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4"/>
          <p:cNvSpPr/>
          <p:nvPr/>
        </p:nvSpPr>
        <p:spPr>
          <a:xfrm>
            <a:off x="7474320" y="647712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6"/>
          <p:cNvSpPr/>
          <p:nvPr/>
        </p:nvSpPr>
        <p:spPr>
          <a:xfrm>
            <a:off x="1789560" y="2865600"/>
            <a:ext cx="5264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l nei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l y a des nu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l y a du v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l pleu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">
            <a:hlinkClick r:id="" action="ppaction://hlinkshowjump?jump=nextslide"/>
          </p:cNvPr>
          <p:cNvSpPr/>
          <p:nvPr/>
        </p:nvSpPr>
        <p:spPr>
          <a:xfrm>
            <a:off x="990720" y="28954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6"/>
                </a:lnTo>
                <a:lnTo>
                  <a:pt x="3794" y="178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>
            <a:hlinkClick r:id="rId1" action="ppaction://hlinksldjump"/>
          </p:cNvPr>
          <p:cNvSpPr/>
          <p:nvPr/>
        </p:nvSpPr>
        <p:spPr>
          <a:xfrm>
            <a:off x="990720" y="3581280"/>
            <a:ext cx="609480" cy="6620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62">
                <a:moveTo>
                  <a:pt x="0" y="0"/>
                </a:moveTo>
                <a:lnTo>
                  <a:pt x="21600" y="0"/>
                </a:lnTo>
                <a:lnTo>
                  <a:pt x="21600" y="23462"/>
                </a:lnTo>
                <a:lnTo>
                  <a:pt x="0" y="23462"/>
                </a:lnTo>
                <a:close/>
              </a:path>
              <a:path fill="lightenLess" w="21600" h="234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62">
                <a:moveTo>
                  <a:pt x="21600" y="0"/>
                </a:moveTo>
                <a:lnTo>
                  <a:pt x="21600" y="23462"/>
                </a:lnTo>
                <a:lnTo>
                  <a:pt x="20200" y="22062"/>
                </a:lnTo>
                <a:lnTo>
                  <a:pt x="20200" y="1400"/>
                </a:lnTo>
                <a:close/>
              </a:path>
              <a:path fill="darkenLess" w="21600" h="23462">
                <a:moveTo>
                  <a:pt x="21600" y="23462"/>
                </a:moveTo>
                <a:lnTo>
                  <a:pt x="0" y="23462"/>
                </a:lnTo>
                <a:lnTo>
                  <a:pt x="1400" y="22062"/>
                </a:lnTo>
                <a:lnTo>
                  <a:pt x="20200" y="22062"/>
                </a:lnTo>
                <a:close/>
              </a:path>
              <a:path fill="lighten" w="21600" h="23462">
                <a:moveTo>
                  <a:pt x="0" y="234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62"/>
                </a:lnTo>
                <a:close/>
              </a:path>
              <a:path fill="darken" w="21600" h="23462">
                <a:moveTo>
                  <a:pt x="3794" y="4724"/>
                </a:moveTo>
                <a:lnTo>
                  <a:pt x="17806" y="11731"/>
                </a:lnTo>
                <a:lnTo>
                  <a:pt x="3794" y="1873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9">
            <a:hlinkClick r:id="rId2" action="ppaction://hlinksldjump"/>
          </p:cNvPr>
          <p:cNvSpPr/>
          <p:nvPr/>
        </p:nvSpPr>
        <p:spPr>
          <a:xfrm>
            <a:off x="990720" y="4367160"/>
            <a:ext cx="609480" cy="6620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62">
                <a:moveTo>
                  <a:pt x="0" y="0"/>
                </a:moveTo>
                <a:lnTo>
                  <a:pt x="21600" y="0"/>
                </a:lnTo>
                <a:lnTo>
                  <a:pt x="21600" y="23462"/>
                </a:lnTo>
                <a:lnTo>
                  <a:pt x="0" y="23462"/>
                </a:lnTo>
                <a:close/>
              </a:path>
              <a:path fill="lightenLess" w="21600" h="234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62">
                <a:moveTo>
                  <a:pt x="21600" y="0"/>
                </a:moveTo>
                <a:lnTo>
                  <a:pt x="21600" y="23462"/>
                </a:lnTo>
                <a:lnTo>
                  <a:pt x="20200" y="22062"/>
                </a:lnTo>
                <a:lnTo>
                  <a:pt x="20200" y="1400"/>
                </a:lnTo>
                <a:close/>
              </a:path>
              <a:path fill="darkenLess" w="21600" h="23462">
                <a:moveTo>
                  <a:pt x="21600" y="23462"/>
                </a:moveTo>
                <a:lnTo>
                  <a:pt x="0" y="23462"/>
                </a:lnTo>
                <a:lnTo>
                  <a:pt x="1400" y="22062"/>
                </a:lnTo>
                <a:lnTo>
                  <a:pt x="20200" y="22062"/>
                </a:lnTo>
                <a:close/>
              </a:path>
              <a:path fill="lighten" w="21600" h="23462">
                <a:moveTo>
                  <a:pt x="0" y="234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62"/>
                </a:lnTo>
                <a:close/>
              </a:path>
              <a:path fill="darken" w="21600" h="23462">
                <a:moveTo>
                  <a:pt x="3794" y="4724"/>
                </a:moveTo>
                <a:lnTo>
                  <a:pt x="17806" y="11731"/>
                </a:lnTo>
                <a:lnTo>
                  <a:pt x="3794" y="1873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0">
            <a:hlinkClick r:id="rId3" action="ppaction://hlinksldjump"/>
          </p:cNvPr>
          <p:cNvSpPr/>
          <p:nvPr/>
        </p:nvSpPr>
        <p:spPr>
          <a:xfrm>
            <a:off x="990720" y="5052960"/>
            <a:ext cx="609480" cy="6620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62">
                <a:moveTo>
                  <a:pt x="0" y="0"/>
                </a:moveTo>
                <a:lnTo>
                  <a:pt x="21600" y="0"/>
                </a:lnTo>
                <a:lnTo>
                  <a:pt x="21600" y="23462"/>
                </a:lnTo>
                <a:lnTo>
                  <a:pt x="0" y="23462"/>
                </a:lnTo>
                <a:close/>
              </a:path>
              <a:path fill="lightenLess" w="21600" h="234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62">
                <a:moveTo>
                  <a:pt x="21600" y="0"/>
                </a:moveTo>
                <a:lnTo>
                  <a:pt x="21600" y="23462"/>
                </a:lnTo>
                <a:lnTo>
                  <a:pt x="20200" y="22062"/>
                </a:lnTo>
                <a:lnTo>
                  <a:pt x="20200" y="1400"/>
                </a:lnTo>
                <a:close/>
              </a:path>
              <a:path fill="darkenLess" w="21600" h="23462">
                <a:moveTo>
                  <a:pt x="21600" y="23462"/>
                </a:moveTo>
                <a:lnTo>
                  <a:pt x="0" y="23462"/>
                </a:lnTo>
                <a:lnTo>
                  <a:pt x="1400" y="22062"/>
                </a:lnTo>
                <a:lnTo>
                  <a:pt x="20200" y="22062"/>
                </a:lnTo>
                <a:close/>
              </a:path>
              <a:path fill="lighten" w="21600" h="23462">
                <a:moveTo>
                  <a:pt x="0" y="234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62"/>
                </a:lnTo>
                <a:close/>
              </a:path>
              <a:path fill="darken" w="21600" h="23462">
                <a:moveTo>
                  <a:pt x="3794" y="4724"/>
                </a:moveTo>
                <a:lnTo>
                  <a:pt x="17806" y="11731"/>
                </a:lnTo>
                <a:lnTo>
                  <a:pt x="3794" y="1873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C:\Users\owner\Desktop\snow_jpg_files\20169183.jpg"/>
          <p:cNvPicPr/>
          <p:nvPr/>
        </p:nvPicPr>
        <p:blipFill>
          <a:blip r:embed="rId4"/>
          <a:stretch/>
        </p:blipFill>
        <p:spPr>
          <a:xfrm>
            <a:off x="1000080" y="390600"/>
            <a:ext cx="2048040" cy="2409840"/>
          </a:xfrm>
          <a:prstGeom prst="rect">
            <a:avLst/>
          </a:prstGeom>
          <a:ln w="0">
            <a:noFill/>
          </a:ln>
        </p:spPr>
      </p:pic>
      <p:sp>
        <p:nvSpPr>
          <p:cNvPr id="133" name="TextBox 7"/>
          <p:cNvSpPr/>
          <p:nvPr/>
        </p:nvSpPr>
        <p:spPr>
          <a:xfrm>
            <a:off x="7474320" y="647712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6"/>
          <p:cNvSpPr txBox="1"/>
          <p:nvPr/>
        </p:nvSpPr>
        <p:spPr>
          <a:xfrm>
            <a:off x="457200" y="609480"/>
            <a:ext cx="4114800" cy="290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Lucida Calligraphy"/>
              </a:rPr>
              <a:t>Super! 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Lucida Calligraphy"/>
              <a:ea typeface="Lucida Calligraph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Lucida Calligraphy"/>
              </a:rPr>
              <a:t>Continue!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Lucida Calligraphy"/>
              <a:ea typeface="Lucida Calligraphy"/>
            </a:endParaRPr>
          </a:p>
        </p:txBody>
      </p:sp>
      <p:sp>
        <p:nvSpPr>
          <p:cNvPr id="135" name="AutoShape 7">
            <a:hlinkClick r:id="rId1" action="ppaction://hlinksldjump"/>
          </p:cNvPr>
          <p:cNvSpPr/>
          <p:nvPr/>
        </p:nvSpPr>
        <p:spPr>
          <a:xfrm>
            <a:off x="411480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C:\Users\owner\Desktop\happy_jpg_files\22438272x.jpg"/>
          <p:cNvPicPr/>
          <p:nvPr/>
        </p:nvPicPr>
        <p:blipFill>
          <a:blip r:embed="rId2"/>
          <a:stretch/>
        </p:blipFill>
        <p:spPr>
          <a:xfrm>
            <a:off x="4876920" y="838080"/>
            <a:ext cx="3800520" cy="38815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4"/>
          <p:cNvSpPr/>
          <p:nvPr/>
        </p:nvSpPr>
        <p:spPr>
          <a:xfrm>
            <a:off x="7474320" y="647712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2274840" y="3022560"/>
            <a:ext cx="45720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Erreur!</a:t>
            </a:r>
            <a:endParaRPr b="0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39" name="AutoShape 5">
            <a:hlinkClick r:id="" action="ppaction://hlinkshowjump?jump=previousslide"/>
          </p:cNvPr>
          <p:cNvSpPr/>
          <p:nvPr/>
        </p:nvSpPr>
        <p:spPr>
          <a:xfrm>
            <a:off x="42670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C:\Users\owner\Desktop\sad_jpg_files\22438264.jpg"/>
          <p:cNvPicPr/>
          <p:nvPr/>
        </p:nvPicPr>
        <p:blipFill>
          <a:blip r:embed="rId1"/>
          <a:stretch/>
        </p:blipFill>
        <p:spPr>
          <a:xfrm>
            <a:off x="3505320" y="380880"/>
            <a:ext cx="2514600" cy="25624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4"/>
          <p:cNvSpPr/>
          <p:nvPr/>
        </p:nvSpPr>
        <p:spPr>
          <a:xfrm>
            <a:off x="7474320" y="647712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7"/>
          <p:cNvSpPr/>
          <p:nvPr/>
        </p:nvSpPr>
        <p:spPr>
          <a:xfrm>
            <a:off x="3666600" y="3200400"/>
            <a:ext cx="4791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l y a de l’or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l fait fro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l fait chau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l nei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9">
            <a:hlinkClick r:id="rId1" action="ppaction://hlinksldjump"/>
          </p:cNvPr>
          <p:cNvSpPr/>
          <p:nvPr/>
        </p:nvSpPr>
        <p:spPr>
          <a:xfrm>
            <a:off x="2819520" y="4062240"/>
            <a:ext cx="609480" cy="6620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62">
                <a:moveTo>
                  <a:pt x="0" y="0"/>
                </a:moveTo>
                <a:lnTo>
                  <a:pt x="21600" y="0"/>
                </a:lnTo>
                <a:lnTo>
                  <a:pt x="21600" y="23462"/>
                </a:lnTo>
                <a:lnTo>
                  <a:pt x="0" y="23462"/>
                </a:lnTo>
                <a:close/>
              </a:path>
              <a:path fill="lightenLess" w="21600" h="234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62">
                <a:moveTo>
                  <a:pt x="21600" y="0"/>
                </a:moveTo>
                <a:lnTo>
                  <a:pt x="21600" y="23462"/>
                </a:lnTo>
                <a:lnTo>
                  <a:pt x="20200" y="22062"/>
                </a:lnTo>
                <a:lnTo>
                  <a:pt x="20200" y="1400"/>
                </a:lnTo>
                <a:close/>
              </a:path>
              <a:path fill="darkenLess" w="21600" h="23462">
                <a:moveTo>
                  <a:pt x="21600" y="23462"/>
                </a:moveTo>
                <a:lnTo>
                  <a:pt x="0" y="23462"/>
                </a:lnTo>
                <a:lnTo>
                  <a:pt x="1400" y="22062"/>
                </a:lnTo>
                <a:lnTo>
                  <a:pt x="20200" y="22062"/>
                </a:lnTo>
                <a:close/>
              </a:path>
              <a:path fill="lighten" w="21600" h="23462">
                <a:moveTo>
                  <a:pt x="0" y="234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62"/>
                </a:lnTo>
                <a:close/>
              </a:path>
              <a:path fill="darken" w="21600" h="23462">
                <a:moveTo>
                  <a:pt x="3794" y="4724"/>
                </a:moveTo>
                <a:lnTo>
                  <a:pt x="17806" y="11731"/>
                </a:lnTo>
                <a:lnTo>
                  <a:pt x="3794" y="18737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0">
            <a:hlinkClick r:id="rId2" action="ppaction://hlinksldjump"/>
          </p:cNvPr>
          <p:cNvSpPr/>
          <p:nvPr/>
        </p:nvSpPr>
        <p:spPr>
          <a:xfrm>
            <a:off x="2819520" y="4800600"/>
            <a:ext cx="609480" cy="6620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62">
                <a:moveTo>
                  <a:pt x="0" y="0"/>
                </a:moveTo>
                <a:lnTo>
                  <a:pt x="21600" y="0"/>
                </a:lnTo>
                <a:lnTo>
                  <a:pt x="21600" y="23462"/>
                </a:lnTo>
                <a:lnTo>
                  <a:pt x="0" y="23462"/>
                </a:lnTo>
                <a:close/>
              </a:path>
              <a:path fill="lightenLess" w="21600" h="234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62">
                <a:moveTo>
                  <a:pt x="21600" y="0"/>
                </a:moveTo>
                <a:lnTo>
                  <a:pt x="21600" y="23462"/>
                </a:lnTo>
                <a:lnTo>
                  <a:pt x="20200" y="22062"/>
                </a:lnTo>
                <a:lnTo>
                  <a:pt x="20200" y="1400"/>
                </a:lnTo>
                <a:close/>
              </a:path>
              <a:path fill="darkenLess" w="21600" h="23462">
                <a:moveTo>
                  <a:pt x="21600" y="23462"/>
                </a:moveTo>
                <a:lnTo>
                  <a:pt x="0" y="23462"/>
                </a:lnTo>
                <a:lnTo>
                  <a:pt x="1400" y="22062"/>
                </a:lnTo>
                <a:lnTo>
                  <a:pt x="20200" y="22062"/>
                </a:lnTo>
                <a:close/>
              </a:path>
              <a:path fill="lighten" w="21600" h="23462">
                <a:moveTo>
                  <a:pt x="0" y="234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62"/>
                </a:lnTo>
                <a:close/>
              </a:path>
              <a:path fill="darken" w="21600" h="23462">
                <a:moveTo>
                  <a:pt x="3794" y="4724"/>
                </a:moveTo>
                <a:lnTo>
                  <a:pt x="17806" y="11731"/>
                </a:lnTo>
                <a:lnTo>
                  <a:pt x="3794" y="18737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1">
            <a:hlinkClick r:id="rId3" action="ppaction://hlinksldjump"/>
          </p:cNvPr>
          <p:cNvSpPr/>
          <p:nvPr/>
        </p:nvSpPr>
        <p:spPr>
          <a:xfrm>
            <a:off x="2819520" y="5486400"/>
            <a:ext cx="609480" cy="6620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62">
                <a:moveTo>
                  <a:pt x="0" y="0"/>
                </a:moveTo>
                <a:lnTo>
                  <a:pt x="21600" y="0"/>
                </a:lnTo>
                <a:lnTo>
                  <a:pt x="21600" y="23462"/>
                </a:lnTo>
                <a:lnTo>
                  <a:pt x="0" y="23462"/>
                </a:lnTo>
                <a:close/>
              </a:path>
              <a:path fill="lightenLess" w="21600" h="234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62">
                <a:moveTo>
                  <a:pt x="21600" y="0"/>
                </a:moveTo>
                <a:lnTo>
                  <a:pt x="21600" y="23462"/>
                </a:lnTo>
                <a:lnTo>
                  <a:pt x="20200" y="22062"/>
                </a:lnTo>
                <a:lnTo>
                  <a:pt x="20200" y="1400"/>
                </a:lnTo>
                <a:close/>
              </a:path>
              <a:path fill="darkenLess" w="21600" h="23462">
                <a:moveTo>
                  <a:pt x="21600" y="23462"/>
                </a:moveTo>
                <a:lnTo>
                  <a:pt x="0" y="23462"/>
                </a:lnTo>
                <a:lnTo>
                  <a:pt x="1400" y="22062"/>
                </a:lnTo>
                <a:lnTo>
                  <a:pt x="20200" y="22062"/>
                </a:lnTo>
                <a:close/>
              </a:path>
              <a:path fill="lighten" w="21600" h="23462">
                <a:moveTo>
                  <a:pt x="0" y="234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62"/>
                </a:lnTo>
                <a:close/>
              </a:path>
              <a:path fill="darken" w="21600" h="23462">
                <a:moveTo>
                  <a:pt x="3794" y="4724"/>
                </a:moveTo>
                <a:lnTo>
                  <a:pt x="17806" y="11731"/>
                </a:lnTo>
                <a:lnTo>
                  <a:pt x="3794" y="18737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3">
            <a:hlinkClick r:id="" action="ppaction://hlinkshowjump?jump=nextslide"/>
          </p:cNvPr>
          <p:cNvSpPr/>
          <p:nvPr/>
        </p:nvSpPr>
        <p:spPr>
          <a:xfrm>
            <a:off x="2819520" y="3429000"/>
            <a:ext cx="585720" cy="58572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4" descr="C:\Users\owner\Desktop\storm_jpg_files\21416508.jpg"/>
          <p:cNvPicPr/>
          <p:nvPr/>
        </p:nvPicPr>
        <p:blipFill>
          <a:blip r:embed="rId4"/>
          <a:stretch/>
        </p:blipFill>
        <p:spPr>
          <a:xfrm>
            <a:off x="457200" y="304920"/>
            <a:ext cx="2962440" cy="2898720"/>
          </a:xfrm>
          <a:prstGeom prst="rect">
            <a:avLst/>
          </a:prstGeom>
          <a:ln w="0">
            <a:noFill/>
          </a:ln>
        </p:spPr>
      </p:pic>
      <p:sp>
        <p:nvSpPr>
          <p:cNvPr id="148" name="TextBox 7"/>
          <p:cNvSpPr/>
          <p:nvPr/>
        </p:nvSpPr>
        <p:spPr>
          <a:xfrm>
            <a:off x="7474320" y="647712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752480" y="3962520"/>
            <a:ext cx="660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000"/>
                </a:solidFill>
                <a:latin typeface="Baveuse"/>
              </a:rPr>
              <a:t>Bravo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>
            <a:hlinkClick r:id="rId1" action="ppaction://hlinksldjump"/>
          </p:cNvPr>
          <p:cNvSpPr/>
          <p:nvPr/>
        </p:nvSpPr>
        <p:spPr>
          <a:xfrm>
            <a:off x="4267080" y="57150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C:\Users\owner\Desktop\happy_jpg_files\yellow happy.jpg"/>
          <p:cNvPicPr/>
          <p:nvPr/>
        </p:nvPicPr>
        <p:blipFill>
          <a:blip r:embed="rId2"/>
          <a:stretch/>
        </p:blipFill>
        <p:spPr>
          <a:xfrm>
            <a:off x="3048120" y="304920"/>
            <a:ext cx="3114720" cy="318132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7474320" y="647712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utoShape 6">
            <a:hlinkClick r:id="rId1" action="ppaction://hlinksldjump"/>
          </p:cNvPr>
          <p:cNvSpPr/>
          <p:nvPr/>
        </p:nvSpPr>
        <p:spPr>
          <a:xfrm>
            <a:off x="4038480" y="4876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C:\Users\owner\Desktop\happy_jpg_files\yellow happy.jpg"/>
          <p:cNvPicPr/>
          <p:nvPr/>
        </p:nvPicPr>
        <p:blipFill>
          <a:blip r:embed="rId2"/>
          <a:stretch/>
        </p:blipFill>
        <p:spPr>
          <a:xfrm>
            <a:off x="533520" y="762120"/>
            <a:ext cx="3571920" cy="3647880"/>
          </a:xfrm>
          <a:prstGeom prst="rect">
            <a:avLst/>
          </a:prstGeom>
          <a:ln w="0">
            <a:noFill/>
          </a:ln>
        </p:spPr>
      </p:pic>
      <p:sp>
        <p:nvSpPr>
          <p:cNvPr id="151" name="TextBox 6"/>
          <p:cNvSpPr/>
          <p:nvPr/>
        </p:nvSpPr>
        <p:spPr>
          <a:xfrm>
            <a:off x="4974840" y="1523880"/>
            <a:ext cx="339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000"/>
                </a:solidFill>
                <a:latin typeface="Baveuse"/>
              </a:rPr>
              <a:t>Brav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000"/>
                </a:solidFill>
                <a:latin typeface="Baveuse"/>
              </a:rPr>
              <a:t>champ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7474320" y="647712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429000" y="762120"/>
            <a:ext cx="5133960" cy="12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Lucida Calligraphy"/>
              </a:rPr>
              <a:t>Dommage!</a:t>
            </a:r>
            <a:endParaRPr b="0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Lucida Calligraphy"/>
              <a:ea typeface="Lucida Calligraphy"/>
            </a:endParaRPr>
          </a:p>
        </p:txBody>
      </p:sp>
      <p:sp>
        <p:nvSpPr>
          <p:cNvPr id="154" name="AutoShape 5">
            <a:hlinkClick r:id="" action="ppaction://hlinkshowjump?jump=previousslide"/>
          </p:cNvPr>
          <p:cNvSpPr/>
          <p:nvPr/>
        </p:nvSpPr>
        <p:spPr>
          <a:xfrm>
            <a:off x="6629400" y="36576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C:\Users\owner\Desktop\sad_jpg_files\22438264X.jpg"/>
          <p:cNvPicPr/>
          <p:nvPr/>
        </p:nvPicPr>
        <p:blipFill>
          <a:blip r:embed="rId1"/>
          <a:stretch/>
        </p:blipFill>
        <p:spPr>
          <a:xfrm>
            <a:off x="1143000" y="2362320"/>
            <a:ext cx="3876840" cy="3949560"/>
          </a:xfrm>
          <a:prstGeom prst="rect">
            <a:avLst/>
          </a:prstGeom>
          <a:ln w="0">
            <a:noFill/>
          </a:ln>
        </p:spPr>
      </p:pic>
      <p:sp>
        <p:nvSpPr>
          <p:cNvPr id="156" name="TextBox 4"/>
          <p:cNvSpPr/>
          <p:nvPr/>
        </p:nvSpPr>
        <p:spPr>
          <a:xfrm>
            <a:off x="7474320" y="647712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0"/>
          <p:cNvSpPr/>
          <p:nvPr/>
        </p:nvSpPr>
        <p:spPr>
          <a:xfrm>
            <a:off x="1295280" y="2362320"/>
            <a:ext cx="6629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’est l’été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’est l’hi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’est le printem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’est l’autom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5638680" y="2108160"/>
            <a:ext cx="990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8"/>
          <p:cNvSpPr/>
          <p:nvPr/>
        </p:nvSpPr>
        <p:spPr>
          <a:xfrm>
            <a:off x="2820960" y="14479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5562720" y="14479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2897280" y="5334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5868720" y="5410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2">
            <a:hlinkClick r:id="" action="ppaction://hlinkshowjump?jump=nextslide"/>
          </p:cNvPr>
          <p:cNvSpPr/>
          <p:nvPr/>
        </p:nvSpPr>
        <p:spPr>
          <a:xfrm>
            <a:off x="6477120" y="43434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4">
            <a:hlinkClick r:id="rId1" action="ppaction://hlinksldjump"/>
          </p:cNvPr>
          <p:cNvSpPr/>
          <p:nvPr/>
        </p:nvSpPr>
        <p:spPr>
          <a:xfrm>
            <a:off x="6400800" y="23623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6">
            <a:hlinkClick r:id="" action="ppaction://hlinkshowjump?jump=nextslide"/>
          </p:cNvPr>
          <p:cNvSpPr/>
          <p:nvPr/>
        </p:nvSpPr>
        <p:spPr>
          <a:xfrm>
            <a:off x="7162920" y="23623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7">
            <a:hlinkClick r:id="" action="ppaction://hlinkshowjump?jump=nextslide"/>
          </p:cNvPr>
          <p:cNvSpPr/>
          <p:nvPr/>
        </p:nvSpPr>
        <p:spPr>
          <a:xfrm>
            <a:off x="7848720" y="23623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8">
            <a:hlinkClick r:id="rId2" action="ppaction://hlinksldjump"/>
          </p:cNvPr>
          <p:cNvSpPr/>
          <p:nvPr/>
        </p:nvSpPr>
        <p:spPr>
          <a:xfrm>
            <a:off x="5715000" y="30481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9">
            <a:hlinkClick r:id="rId3" action="ppaction://hlinksldjump"/>
          </p:cNvPr>
          <p:cNvSpPr/>
          <p:nvPr/>
        </p:nvSpPr>
        <p:spPr>
          <a:xfrm>
            <a:off x="7848720" y="3733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0">
            <a:hlinkClick r:id="rId4" action="ppaction://hlinksldjump"/>
          </p:cNvPr>
          <p:cNvSpPr/>
          <p:nvPr/>
        </p:nvSpPr>
        <p:spPr>
          <a:xfrm>
            <a:off x="7238880" y="434340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1">
            <a:hlinkClick r:id="" action="ppaction://hlinkshowjump?jump=nextslide"/>
          </p:cNvPr>
          <p:cNvSpPr/>
          <p:nvPr/>
        </p:nvSpPr>
        <p:spPr>
          <a:xfrm>
            <a:off x="6477120" y="30481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2">
            <a:hlinkClick r:id="" action="ppaction://hlinkshowjump?jump=nextslide"/>
          </p:cNvPr>
          <p:cNvSpPr/>
          <p:nvPr/>
        </p:nvSpPr>
        <p:spPr>
          <a:xfrm>
            <a:off x="7162920" y="30481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33">
            <a:hlinkClick r:id="" action="ppaction://hlinkshowjump?jump=nextslide"/>
          </p:cNvPr>
          <p:cNvSpPr/>
          <p:nvPr/>
        </p:nvSpPr>
        <p:spPr>
          <a:xfrm>
            <a:off x="7848720" y="30481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4">
            <a:hlinkClick r:id="" action="ppaction://hlinkshowjump?jump=nextslide"/>
          </p:cNvPr>
          <p:cNvSpPr/>
          <p:nvPr/>
        </p:nvSpPr>
        <p:spPr>
          <a:xfrm>
            <a:off x="5791320" y="37339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5">
            <a:hlinkClick r:id="" action="ppaction://hlinkshowjump?jump=nextslide"/>
          </p:cNvPr>
          <p:cNvSpPr/>
          <p:nvPr/>
        </p:nvSpPr>
        <p:spPr>
          <a:xfrm>
            <a:off x="6477120" y="37339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6">
            <a:hlinkClick r:id="" action="ppaction://hlinkshowjump?jump=nextslide"/>
          </p:cNvPr>
          <p:cNvSpPr/>
          <p:nvPr/>
        </p:nvSpPr>
        <p:spPr>
          <a:xfrm>
            <a:off x="7238880" y="3733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7">
            <a:hlinkClick r:id="" action="ppaction://hlinkshowjump?jump=nextslide"/>
          </p:cNvPr>
          <p:cNvSpPr/>
          <p:nvPr/>
        </p:nvSpPr>
        <p:spPr>
          <a:xfrm>
            <a:off x="5791320" y="43434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38">
            <a:hlinkClick r:id="" action="ppaction://hlinkshowjump?jump=nextslide"/>
          </p:cNvPr>
          <p:cNvSpPr/>
          <p:nvPr/>
        </p:nvSpPr>
        <p:spPr>
          <a:xfrm>
            <a:off x="5715000" y="23623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9">
            <a:hlinkClick r:id="" action="ppaction://hlinkshowjump?jump=nextslide"/>
          </p:cNvPr>
          <p:cNvSpPr/>
          <p:nvPr/>
        </p:nvSpPr>
        <p:spPr>
          <a:xfrm>
            <a:off x="7924680" y="43434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0" descr="C:\Users\owner\Desktop\sled_jpg_files\21746710.jpg"/>
          <p:cNvPicPr/>
          <p:nvPr/>
        </p:nvPicPr>
        <p:blipFill>
          <a:blip r:embed="rId5"/>
          <a:stretch/>
        </p:blipFill>
        <p:spPr>
          <a:xfrm>
            <a:off x="1371600" y="380880"/>
            <a:ext cx="1133640" cy="1684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1" descr="C:\Users\owner\Desktop\beach_jpg_files\22057710.jpg"/>
          <p:cNvPicPr/>
          <p:nvPr/>
        </p:nvPicPr>
        <p:blipFill>
          <a:blip r:embed="rId6"/>
          <a:stretch/>
        </p:blipFill>
        <p:spPr>
          <a:xfrm>
            <a:off x="6248520" y="457200"/>
            <a:ext cx="2124000" cy="1625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2" descr="C:\Users\owner\Desktop\fall_jpg_files\20506855.jpg"/>
          <p:cNvPicPr/>
          <p:nvPr/>
        </p:nvPicPr>
        <p:blipFill>
          <a:blip r:embed="rId7"/>
          <a:stretch/>
        </p:blipFill>
        <p:spPr>
          <a:xfrm>
            <a:off x="685800" y="4952880"/>
            <a:ext cx="2048040" cy="14828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3" descr="C:\Users\owner\Desktop\chirp_jpg_files\37188503.jpg"/>
          <p:cNvPicPr/>
          <p:nvPr/>
        </p:nvPicPr>
        <p:blipFill>
          <a:blip r:embed="rId8"/>
          <a:stretch/>
        </p:blipFill>
        <p:spPr>
          <a:xfrm>
            <a:off x="6580080" y="5105520"/>
            <a:ext cx="1563840" cy="1304640"/>
          </a:xfrm>
          <a:prstGeom prst="rect">
            <a:avLst/>
          </a:prstGeom>
          <a:ln w="0">
            <a:noFill/>
          </a:ln>
        </p:spPr>
      </p:pic>
      <p:sp>
        <p:nvSpPr>
          <p:cNvPr id="183" name="TextBox 27"/>
          <p:cNvSpPr/>
          <p:nvPr/>
        </p:nvSpPr>
        <p:spPr>
          <a:xfrm>
            <a:off x="7474320" y="647712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4"/>
          <p:cNvSpPr txBox="1"/>
          <p:nvPr/>
        </p:nvSpPr>
        <p:spPr>
          <a:xfrm>
            <a:off x="1219320" y="1752480"/>
            <a:ext cx="58672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ssaie encore une fois</a:t>
            </a:r>
            <a:endParaRPr b="0" lang="en-US" sz="5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5" name="AutoShape 5">
            <a:hlinkClick r:id="" action="ppaction://hlinkshowjump?jump=previousslide"/>
          </p:cNvPr>
          <p:cNvSpPr/>
          <p:nvPr/>
        </p:nvSpPr>
        <p:spPr>
          <a:xfrm>
            <a:off x="59436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"/>
          <p:cNvSpPr/>
          <p:nvPr/>
        </p:nvSpPr>
        <p:spPr>
          <a:xfrm>
            <a:off x="7474320" y="647712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5"/>
          <p:cNvSpPr txBox="1"/>
          <p:nvPr/>
        </p:nvSpPr>
        <p:spPr>
          <a:xfrm>
            <a:off x="1600200" y="3657600"/>
            <a:ext cx="6119640" cy="25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gnifique!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8" name="AutoShape 6">
            <a:hlinkClick r:id="" action="ppaction://hlinkshowjump?jump=nextslide"/>
          </p:cNvPr>
          <p:cNvSpPr/>
          <p:nvPr/>
        </p:nvSpPr>
        <p:spPr>
          <a:xfrm>
            <a:off x="7391520" y="2057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C:\Users\owner\Desktop\happy_jpg_files\yellow happy.jpg"/>
          <p:cNvPicPr/>
          <p:nvPr/>
        </p:nvPicPr>
        <p:blipFill>
          <a:blip r:embed="rId3"/>
          <a:stretch/>
        </p:blipFill>
        <p:spPr>
          <a:xfrm>
            <a:off x="1447920" y="533520"/>
            <a:ext cx="3504960" cy="357984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7474320" y="647712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1355760" y="1947960"/>
            <a:ext cx="572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d you do all 4 ques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i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5">
            <a:hlinkClick r:id="" action="ppaction://hlinkshowjump?jump=lastslide"/>
          </p:cNvPr>
          <p:cNvSpPr/>
          <p:nvPr/>
        </p:nvSpPr>
        <p:spPr>
          <a:xfrm>
            <a:off x="3429000" y="32004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6"/>
          <p:cNvSpPr/>
          <p:nvPr/>
        </p:nvSpPr>
        <p:spPr>
          <a:xfrm>
            <a:off x="3429000" y="41911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4"/>
          <p:cNvSpPr/>
          <p:nvPr/>
        </p:nvSpPr>
        <p:spPr>
          <a:xfrm>
            <a:off x="7474320" y="647712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6"/>
          <p:cNvSpPr/>
          <p:nvPr/>
        </p:nvSpPr>
        <p:spPr>
          <a:xfrm>
            <a:off x="1641960" y="1676520"/>
            <a:ext cx="5959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6600"/>
                </a:solidFill>
                <a:latin typeface="Verdana"/>
                <a:ea typeface="Verdana"/>
              </a:rPr>
              <a:t>Tu as fini!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6600"/>
                </a:solidFill>
                <a:latin typeface="Verdana"/>
                <a:ea typeface="Verdana"/>
              </a:rPr>
              <a:t> </a:t>
            </a:r>
            <a:r>
              <a:rPr b="0" lang="en-US" sz="9600" spc="-1" strike="noStrike">
                <a:solidFill>
                  <a:srgbClr val="ff6600"/>
                </a:solidFill>
                <a:latin typeface="Verdana"/>
                <a:ea typeface="Verdana"/>
              </a:rPr>
              <a:t>Bravo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3"/>
          <p:cNvSpPr/>
          <p:nvPr/>
        </p:nvSpPr>
        <p:spPr>
          <a:xfrm>
            <a:off x="7474320" y="647712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706400" y="4648320"/>
            <a:ext cx="508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n, recommenc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">
            <a:hlinkClick r:id="" action="ppaction://hlinkshowjump?jump=previousslide"/>
          </p:cNvPr>
          <p:cNvSpPr/>
          <p:nvPr/>
        </p:nvSpPr>
        <p:spPr>
          <a:xfrm>
            <a:off x="6858000" y="4191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C:\Users\owner\Desktop\sad_jpg_files\22438264.jpg"/>
          <p:cNvPicPr/>
          <p:nvPr/>
        </p:nvPicPr>
        <p:blipFill>
          <a:blip r:embed="rId1"/>
          <a:stretch/>
        </p:blipFill>
        <p:spPr>
          <a:xfrm>
            <a:off x="2252520" y="1066680"/>
            <a:ext cx="2853000" cy="290520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7474320" y="647712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6"/>
          <p:cNvSpPr/>
          <p:nvPr/>
        </p:nvSpPr>
        <p:spPr>
          <a:xfrm>
            <a:off x="3842280" y="2362320"/>
            <a:ext cx="499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l y a des nu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3834720" y="3200400"/>
            <a:ext cx="384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l y a du v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3878280" y="4084560"/>
            <a:ext cx="519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l y a du brouilla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9">
            <a:hlinkClick r:id="rId1" action="ppaction://hlinksldjump"/>
          </p:cNvPr>
          <p:cNvSpPr/>
          <p:nvPr/>
        </p:nvSpPr>
        <p:spPr>
          <a:xfrm>
            <a:off x="2819520" y="2286000"/>
            <a:ext cx="609480" cy="81432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14320"/>
              <a:gd name="textAreaBottom" fmla="*/ 775080 h 814320"/>
            </a:gdLst>
            <a:ahLst/>
            <a:rect l="textAreaLeft" t="textAreaTop" r="textAreaRight" b="textAreaBottom"/>
            <a:pathLst>
              <a:path w="21600" h="28855">
                <a:moveTo>
                  <a:pt x="0" y="0"/>
                </a:moveTo>
                <a:lnTo>
                  <a:pt x="21600" y="0"/>
                </a:lnTo>
                <a:lnTo>
                  <a:pt x="21600" y="28855"/>
                </a:lnTo>
                <a:lnTo>
                  <a:pt x="0" y="28855"/>
                </a:lnTo>
                <a:close/>
              </a:path>
              <a:path fill="lightenLess" w="21600" h="288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55">
                <a:moveTo>
                  <a:pt x="21600" y="0"/>
                </a:moveTo>
                <a:lnTo>
                  <a:pt x="21600" y="28855"/>
                </a:lnTo>
                <a:lnTo>
                  <a:pt x="20200" y="27455"/>
                </a:lnTo>
                <a:lnTo>
                  <a:pt x="20200" y="1400"/>
                </a:lnTo>
                <a:close/>
              </a:path>
              <a:path fill="darkenLess" w="21600" h="28855">
                <a:moveTo>
                  <a:pt x="21600" y="28855"/>
                </a:moveTo>
                <a:lnTo>
                  <a:pt x="0" y="28855"/>
                </a:lnTo>
                <a:lnTo>
                  <a:pt x="1400" y="27455"/>
                </a:lnTo>
                <a:lnTo>
                  <a:pt x="20200" y="27455"/>
                </a:lnTo>
                <a:close/>
              </a:path>
              <a:path fill="lighten" w="21600" h="28855">
                <a:moveTo>
                  <a:pt x="0" y="288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55"/>
                </a:lnTo>
                <a:close/>
              </a:path>
              <a:path fill="darken" w="21600" h="28855">
                <a:moveTo>
                  <a:pt x="3794" y="7421"/>
                </a:moveTo>
                <a:lnTo>
                  <a:pt x="17806" y="14428"/>
                </a:lnTo>
                <a:lnTo>
                  <a:pt x="3794" y="214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0">
            <a:hlinkClick r:id="rId2" action="ppaction://hlinksldjump"/>
          </p:cNvPr>
          <p:cNvSpPr/>
          <p:nvPr/>
        </p:nvSpPr>
        <p:spPr>
          <a:xfrm>
            <a:off x="2819520" y="4267080"/>
            <a:ext cx="609480" cy="8146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14680"/>
              <a:gd name="textAreaBottom" fmla="*/ 775440 h 814680"/>
            </a:gdLst>
            <a:ahLst/>
            <a:rect l="textAreaLeft" t="textAreaTop" r="textAreaRight" b="textAreaBottom"/>
            <a:pathLst>
              <a:path w="21600" h="28868">
                <a:moveTo>
                  <a:pt x="0" y="0"/>
                </a:moveTo>
                <a:lnTo>
                  <a:pt x="21600" y="0"/>
                </a:lnTo>
                <a:lnTo>
                  <a:pt x="21600" y="28868"/>
                </a:lnTo>
                <a:lnTo>
                  <a:pt x="0" y="28868"/>
                </a:lnTo>
                <a:close/>
              </a:path>
              <a:path fill="lightenLess" w="21600" h="28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68">
                <a:moveTo>
                  <a:pt x="21600" y="0"/>
                </a:moveTo>
                <a:lnTo>
                  <a:pt x="21600" y="28868"/>
                </a:lnTo>
                <a:lnTo>
                  <a:pt x="20200" y="27468"/>
                </a:lnTo>
                <a:lnTo>
                  <a:pt x="20200" y="1400"/>
                </a:lnTo>
                <a:close/>
              </a:path>
              <a:path fill="darkenLess" w="21600" h="28868">
                <a:moveTo>
                  <a:pt x="21600" y="28868"/>
                </a:moveTo>
                <a:lnTo>
                  <a:pt x="0" y="28868"/>
                </a:lnTo>
                <a:lnTo>
                  <a:pt x="1400" y="27468"/>
                </a:lnTo>
                <a:lnTo>
                  <a:pt x="20200" y="27468"/>
                </a:lnTo>
                <a:close/>
              </a:path>
              <a:path fill="lighten" w="21600" h="28868">
                <a:moveTo>
                  <a:pt x="0" y="28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68"/>
                </a:lnTo>
                <a:close/>
              </a:path>
              <a:path fill="darken" w="21600" h="28868">
                <a:moveTo>
                  <a:pt x="3794" y="7428"/>
                </a:moveTo>
                <a:lnTo>
                  <a:pt x="17806" y="14434"/>
                </a:lnTo>
                <a:lnTo>
                  <a:pt x="3794" y="214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1">
            <a:hlinkClick r:id="" action="ppaction://hlinkshowjump?jump=nextslide"/>
          </p:cNvPr>
          <p:cNvSpPr/>
          <p:nvPr/>
        </p:nvSpPr>
        <p:spPr>
          <a:xfrm>
            <a:off x="2819520" y="3276720"/>
            <a:ext cx="609480" cy="8906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90640"/>
              <a:gd name="textAreaBottom" fmla="*/ 851400 h 890640"/>
            </a:gdLst>
            <a:ahLst/>
            <a:rect l="textAreaLeft" t="textAreaTop" r="textAreaRight" b="textAreaBottom"/>
            <a:pathLst>
              <a:path w="21600" h="31558">
                <a:moveTo>
                  <a:pt x="0" y="0"/>
                </a:moveTo>
                <a:lnTo>
                  <a:pt x="21600" y="0"/>
                </a:lnTo>
                <a:lnTo>
                  <a:pt x="21600" y="31558"/>
                </a:lnTo>
                <a:lnTo>
                  <a:pt x="0" y="31558"/>
                </a:lnTo>
                <a:close/>
              </a:path>
              <a:path fill="lightenLess" w="21600" h="315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558">
                <a:moveTo>
                  <a:pt x="21600" y="0"/>
                </a:moveTo>
                <a:lnTo>
                  <a:pt x="21600" y="31558"/>
                </a:lnTo>
                <a:lnTo>
                  <a:pt x="20200" y="30158"/>
                </a:lnTo>
                <a:lnTo>
                  <a:pt x="20200" y="1400"/>
                </a:lnTo>
                <a:close/>
              </a:path>
              <a:path fill="darkenLess" w="21600" h="31558">
                <a:moveTo>
                  <a:pt x="21600" y="31558"/>
                </a:moveTo>
                <a:lnTo>
                  <a:pt x="0" y="31558"/>
                </a:lnTo>
                <a:lnTo>
                  <a:pt x="1400" y="30158"/>
                </a:lnTo>
                <a:lnTo>
                  <a:pt x="20200" y="30158"/>
                </a:lnTo>
                <a:close/>
              </a:path>
              <a:path fill="lighten" w="21600" h="31558">
                <a:moveTo>
                  <a:pt x="0" y="31558"/>
                </a:moveTo>
                <a:lnTo>
                  <a:pt x="0" y="0"/>
                </a:lnTo>
                <a:lnTo>
                  <a:pt x="1400" y="1400"/>
                </a:lnTo>
                <a:lnTo>
                  <a:pt x="1400" y="30158"/>
                </a:lnTo>
                <a:close/>
              </a:path>
              <a:path fill="darken" w="21600" h="31558">
                <a:moveTo>
                  <a:pt x="3794" y="8773"/>
                </a:moveTo>
                <a:lnTo>
                  <a:pt x="17806" y="15779"/>
                </a:lnTo>
                <a:lnTo>
                  <a:pt x="3794" y="2278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C:\Users\owner\Desktop\wind_jpg_files\21746221.jpg"/>
          <p:cNvPicPr/>
          <p:nvPr/>
        </p:nvPicPr>
        <p:blipFill>
          <a:blip r:embed="rId3"/>
          <a:stretch/>
        </p:blipFill>
        <p:spPr>
          <a:xfrm>
            <a:off x="380880" y="304920"/>
            <a:ext cx="2505240" cy="1960560"/>
          </a:xfrm>
          <a:prstGeom prst="rect">
            <a:avLst/>
          </a:prstGeom>
          <a:ln w="0">
            <a:noFill/>
          </a:ln>
        </p:spPr>
      </p:pic>
      <p:sp>
        <p:nvSpPr>
          <p:cNvPr id="71" name="TextBox 8"/>
          <p:cNvSpPr/>
          <p:nvPr/>
        </p:nvSpPr>
        <p:spPr>
          <a:xfrm>
            <a:off x="7474320" y="647712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4"/>
          <p:cNvSpPr txBox="1"/>
          <p:nvPr/>
        </p:nvSpPr>
        <p:spPr>
          <a:xfrm>
            <a:off x="1371600" y="1066680"/>
            <a:ext cx="6248520" cy="2438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087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Excellent!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73" name="AutoShape 7">
            <a:hlinkClick r:id="rId1" action="ppaction://hlinksldjump"/>
          </p:cNvPr>
          <p:cNvSpPr/>
          <p:nvPr/>
        </p:nvSpPr>
        <p:spPr>
          <a:xfrm>
            <a:off x="411480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C:\Users\owner\Desktop\happy_jpg_files\yellow happy.jpg"/>
          <p:cNvPicPr/>
          <p:nvPr/>
        </p:nvPicPr>
        <p:blipFill>
          <a:blip r:embed="rId2"/>
          <a:stretch/>
        </p:blipFill>
        <p:spPr>
          <a:xfrm>
            <a:off x="3048120" y="1905120"/>
            <a:ext cx="3114720" cy="3181320"/>
          </a:xfrm>
          <a:prstGeom prst="rect">
            <a:avLst/>
          </a:prstGeom>
          <a:ln w="0">
            <a:noFill/>
          </a:ln>
        </p:spPr>
      </p:pic>
      <p:sp>
        <p:nvSpPr>
          <p:cNvPr id="75" name="TextBox 4"/>
          <p:cNvSpPr/>
          <p:nvPr/>
        </p:nvSpPr>
        <p:spPr>
          <a:xfrm>
            <a:off x="7474320" y="647712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1377720" y="4343400"/>
            <a:ext cx="546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on, recomm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>
            <a:hlinkClick r:id="" action="ppaction://hlinkshowjump?jump=previousslide"/>
          </p:cNvPr>
          <p:cNvSpPr/>
          <p:nvPr/>
        </p:nvSpPr>
        <p:spPr>
          <a:xfrm>
            <a:off x="7315200" y="4191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609480" y="1066680"/>
            <a:ext cx="333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597a0"/>
                </a:solidFill>
                <a:latin typeface="Baveuse"/>
              </a:rPr>
              <a:t>Zut, alor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C:\Users\owner\Desktop\sad_jpg_files\22438264X.jpg"/>
          <p:cNvPicPr/>
          <p:nvPr/>
        </p:nvPicPr>
        <p:blipFill>
          <a:blip r:embed="rId1"/>
          <a:stretch/>
        </p:blipFill>
        <p:spPr>
          <a:xfrm>
            <a:off x="5029200" y="457200"/>
            <a:ext cx="3343320" cy="3405240"/>
          </a:xfrm>
          <a:prstGeom prst="rect">
            <a:avLst/>
          </a:prstGeom>
          <a:ln w="0">
            <a:noFill/>
          </a:ln>
        </p:spPr>
      </p:pic>
      <p:sp>
        <p:nvSpPr>
          <p:cNvPr id="80" name="TextBox 6"/>
          <p:cNvSpPr/>
          <p:nvPr/>
        </p:nvSpPr>
        <p:spPr>
          <a:xfrm>
            <a:off x="7474320" y="647712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6"/>
          <p:cNvSpPr/>
          <p:nvPr/>
        </p:nvSpPr>
        <p:spPr>
          <a:xfrm>
            <a:off x="2979360" y="3276720"/>
            <a:ext cx="5672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’est l’ét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’est l’autom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’est le printem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’est l’hiv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">
            <a:hlinkClick r:id="rId1" action="ppaction://hlinksldjump"/>
          </p:cNvPr>
          <p:cNvSpPr/>
          <p:nvPr/>
        </p:nvSpPr>
        <p:spPr>
          <a:xfrm>
            <a:off x="2286000" y="3276720"/>
            <a:ext cx="585720" cy="73800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738000"/>
              <a:gd name="textAreaBottom" fmla="*/ 700200 h 738000"/>
            </a:gdLst>
            <a:ahLst/>
            <a:rect l="textAreaLeft" t="textAreaTop" r="textAreaRight" b="textAreaBottom"/>
            <a:pathLst>
              <a:path w="21600" h="27212">
                <a:moveTo>
                  <a:pt x="0" y="0"/>
                </a:moveTo>
                <a:lnTo>
                  <a:pt x="21600" y="0"/>
                </a:lnTo>
                <a:lnTo>
                  <a:pt x="21600" y="27212"/>
                </a:lnTo>
                <a:lnTo>
                  <a:pt x="0" y="27212"/>
                </a:lnTo>
                <a:close/>
              </a:path>
              <a:path fill="lightenLess" w="21600" h="272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212">
                <a:moveTo>
                  <a:pt x="21600" y="0"/>
                </a:moveTo>
                <a:lnTo>
                  <a:pt x="21600" y="27212"/>
                </a:lnTo>
                <a:lnTo>
                  <a:pt x="20200" y="25812"/>
                </a:lnTo>
                <a:lnTo>
                  <a:pt x="20200" y="1400"/>
                </a:lnTo>
                <a:close/>
              </a:path>
              <a:path fill="darkenLess" w="21600" h="27212">
                <a:moveTo>
                  <a:pt x="21600" y="27212"/>
                </a:moveTo>
                <a:lnTo>
                  <a:pt x="0" y="27212"/>
                </a:lnTo>
                <a:lnTo>
                  <a:pt x="1400" y="25812"/>
                </a:lnTo>
                <a:lnTo>
                  <a:pt x="20200" y="25812"/>
                </a:lnTo>
                <a:close/>
              </a:path>
              <a:path fill="lighten" w="21600" h="27212">
                <a:moveTo>
                  <a:pt x="0" y="272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812"/>
                </a:lnTo>
                <a:close/>
              </a:path>
              <a:path fill="darken" w="21600" h="27212">
                <a:moveTo>
                  <a:pt x="3794" y="6600"/>
                </a:moveTo>
                <a:lnTo>
                  <a:pt x="17806" y="13606"/>
                </a:lnTo>
                <a:lnTo>
                  <a:pt x="3794" y="206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8">
            <a:hlinkClick r:id="rId2" action="ppaction://hlinksldjump"/>
          </p:cNvPr>
          <p:cNvSpPr/>
          <p:nvPr/>
        </p:nvSpPr>
        <p:spPr>
          <a:xfrm>
            <a:off x="2286000" y="4038480"/>
            <a:ext cx="585720" cy="73836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738360"/>
              <a:gd name="textAreaBottom" fmla="*/ 700560 h 738360"/>
            </a:gdLst>
            <a:ahLst/>
            <a:rect l="textAreaLeft" t="textAreaTop" r="textAreaRight" b="textAreaBottom"/>
            <a:pathLst>
              <a:path w="21600" h="27226">
                <a:moveTo>
                  <a:pt x="0" y="0"/>
                </a:moveTo>
                <a:lnTo>
                  <a:pt x="21600" y="0"/>
                </a:lnTo>
                <a:lnTo>
                  <a:pt x="21600" y="27226"/>
                </a:lnTo>
                <a:lnTo>
                  <a:pt x="0" y="27226"/>
                </a:lnTo>
                <a:close/>
              </a:path>
              <a:path fill="lightenLess" w="21600" h="272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226">
                <a:moveTo>
                  <a:pt x="21600" y="0"/>
                </a:moveTo>
                <a:lnTo>
                  <a:pt x="21600" y="27226"/>
                </a:lnTo>
                <a:lnTo>
                  <a:pt x="20200" y="25826"/>
                </a:lnTo>
                <a:lnTo>
                  <a:pt x="20200" y="1400"/>
                </a:lnTo>
                <a:close/>
              </a:path>
              <a:path fill="darkenLess" w="21600" h="27226">
                <a:moveTo>
                  <a:pt x="21600" y="27226"/>
                </a:moveTo>
                <a:lnTo>
                  <a:pt x="0" y="27226"/>
                </a:lnTo>
                <a:lnTo>
                  <a:pt x="1400" y="25826"/>
                </a:lnTo>
                <a:lnTo>
                  <a:pt x="20200" y="25826"/>
                </a:lnTo>
                <a:close/>
              </a:path>
              <a:path fill="lighten" w="21600" h="27226">
                <a:moveTo>
                  <a:pt x="0" y="272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826"/>
                </a:lnTo>
                <a:close/>
              </a:path>
              <a:path fill="darken" w="21600" h="27226">
                <a:moveTo>
                  <a:pt x="3794" y="6606"/>
                </a:moveTo>
                <a:lnTo>
                  <a:pt x="17806" y="13613"/>
                </a:lnTo>
                <a:lnTo>
                  <a:pt x="3794" y="2061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9">
            <a:hlinkClick r:id="rId3" action="ppaction://hlinksldjump"/>
          </p:cNvPr>
          <p:cNvSpPr/>
          <p:nvPr/>
        </p:nvSpPr>
        <p:spPr>
          <a:xfrm>
            <a:off x="2286000" y="4800600"/>
            <a:ext cx="585720" cy="73836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738360"/>
              <a:gd name="textAreaBottom" fmla="*/ 700560 h 738360"/>
            </a:gdLst>
            <a:ahLst/>
            <a:rect l="textAreaLeft" t="textAreaTop" r="textAreaRight" b="textAreaBottom"/>
            <a:pathLst>
              <a:path w="21600" h="27226">
                <a:moveTo>
                  <a:pt x="0" y="0"/>
                </a:moveTo>
                <a:lnTo>
                  <a:pt x="21600" y="0"/>
                </a:lnTo>
                <a:lnTo>
                  <a:pt x="21600" y="27226"/>
                </a:lnTo>
                <a:lnTo>
                  <a:pt x="0" y="27226"/>
                </a:lnTo>
                <a:close/>
              </a:path>
              <a:path fill="lightenLess" w="21600" h="272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226">
                <a:moveTo>
                  <a:pt x="21600" y="0"/>
                </a:moveTo>
                <a:lnTo>
                  <a:pt x="21600" y="27226"/>
                </a:lnTo>
                <a:lnTo>
                  <a:pt x="20200" y="25826"/>
                </a:lnTo>
                <a:lnTo>
                  <a:pt x="20200" y="1400"/>
                </a:lnTo>
                <a:close/>
              </a:path>
              <a:path fill="darkenLess" w="21600" h="27226">
                <a:moveTo>
                  <a:pt x="21600" y="27226"/>
                </a:moveTo>
                <a:lnTo>
                  <a:pt x="0" y="27226"/>
                </a:lnTo>
                <a:lnTo>
                  <a:pt x="1400" y="25826"/>
                </a:lnTo>
                <a:lnTo>
                  <a:pt x="20200" y="25826"/>
                </a:lnTo>
                <a:close/>
              </a:path>
              <a:path fill="lighten" w="21600" h="27226">
                <a:moveTo>
                  <a:pt x="0" y="272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826"/>
                </a:lnTo>
                <a:close/>
              </a:path>
              <a:path fill="darken" w="21600" h="27226">
                <a:moveTo>
                  <a:pt x="3794" y="6606"/>
                </a:moveTo>
                <a:lnTo>
                  <a:pt x="17806" y="13613"/>
                </a:lnTo>
                <a:lnTo>
                  <a:pt x="3794" y="2061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0">
            <a:hlinkClick r:id="" action="ppaction://hlinkshowjump?jump=nextslide"/>
          </p:cNvPr>
          <p:cNvSpPr/>
          <p:nvPr/>
        </p:nvSpPr>
        <p:spPr>
          <a:xfrm>
            <a:off x="2286000" y="5562720"/>
            <a:ext cx="609480" cy="7380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738000"/>
              <a:gd name="textAreaBottom" fmla="*/ 698760 h 738000"/>
            </a:gdLst>
            <a:ahLst/>
            <a:rect l="textAreaLeft" t="textAreaTop" r="textAreaRight" b="textAreaBottom"/>
            <a:pathLst>
              <a:path w="21600" h="26152">
                <a:moveTo>
                  <a:pt x="0" y="0"/>
                </a:moveTo>
                <a:lnTo>
                  <a:pt x="21600" y="0"/>
                </a:lnTo>
                <a:lnTo>
                  <a:pt x="21600" y="26152"/>
                </a:lnTo>
                <a:lnTo>
                  <a:pt x="0" y="26152"/>
                </a:lnTo>
                <a:close/>
              </a:path>
              <a:path fill="lightenLess" w="21600" h="261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152">
                <a:moveTo>
                  <a:pt x="21600" y="0"/>
                </a:moveTo>
                <a:lnTo>
                  <a:pt x="21600" y="26152"/>
                </a:lnTo>
                <a:lnTo>
                  <a:pt x="20200" y="24752"/>
                </a:lnTo>
                <a:lnTo>
                  <a:pt x="20200" y="1400"/>
                </a:lnTo>
                <a:close/>
              </a:path>
              <a:path fill="darkenLess" w="21600" h="26152">
                <a:moveTo>
                  <a:pt x="21600" y="26152"/>
                </a:moveTo>
                <a:lnTo>
                  <a:pt x="0" y="26152"/>
                </a:lnTo>
                <a:lnTo>
                  <a:pt x="1400" y="24752"/>
                </a:lnTo>
                <a:lnTo>
                  <a:pt x="20200" y="24752"/>
                </a:lnTo>
                <a:close/>
              </a:path>
              <a:path fill="lighten" w="21600" h="26152">
                <a:moveTo>
                  <a:pt x="0" y="261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752"/>
                </a:lnTo>
                <a:close/>
              </a:path>
              <a:path fill="darken" w="21600" h="26152">
                <a:moveTo>
                  <a:pt x="3794" y="6070"/>
                </a:moveTo>
                <a:lnTo>
                  <a:pt x="17806" y="13076"/>
                </a:lnTo>
                <a:lnTo>
                  <a:pt x="3794" y="2008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C:\Users\owner\Desktop\winter_jpg_files\20367941.jpg"/>
          <p:cNvPicPr/>
          <p:nvPr/>
        </p:nvPicPr>
        <p:blipFill>
          <a:blip r:embed="rId4"/>
          <a:stretch/>
        </p:blipFill>
        <p:spPr>
          <a:xfrm>
            <a:off x="457200" y="304920"/>
            <a:ext cx="2809800" cy="2828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7"/>
          <p:cNvSpPr/>
          <p:nvPr/>
        </p:nvSpPr>
        <p:spPr>
          <a:xfrm>
            <a:off x="7474320" y="647712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4952880" y="990720"/>
            <a:ext cx="3548160" cy="18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Magnifique!</a:t>
            </a:r>
            <a:endParaRPr b="0" lang="en-US" sz="5400" spc="1" strike="noStrike">
              <a:ln w="0">
                <a:noFill/>
              </a:ln>
              <a:solidFill>
                <a:srgbClr val="9933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9" name="AutoShape 5">
            <a:hlinkClick r:id="rId1" action="ppaction://hlinksldjump"/>
          </p:cNvPr>
          <p:cNvSpPr/>
          <p:nvPr/>
        </p:nvSpPr>
        <p:spPr>
          <a:xfrm>
            <a:off x="411480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C:\Users\owner\Desktop\happy_jpg_files\22438272.jpg"/>
          <p:cNvPicPr/>
          <p:nvPr/>
        </p:nvPicPr>
        <p:blipFill>
          <a:blip r:embed="rId2"/>
          <a:stretch/>
        </p:blipFill>
        <p:spPr>
          <a:xfrm>
            <a:off x="762120" y="762120"/>
            <a:ext cx="3724200" cy="380340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7474320" y="647712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4"/>
          <p:cNvSpPr txBox="1"/>
          <p:nvPr/>
        </p:nvSpPr>
        <p:spPr>
          <a:xfrm>
            <a:off x="533520" y="2362320"/>
            <a:ext cx="384804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Je regrette</a:t>
            </a:r>
            <a:endParaRPr b="0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" name="AutoShape 5">
            <a:hlinkClick r:id="rId1" action="ppaction://hlinksldjump"/>
          </p:cNvPr>
          <p:cNvSpPr/>
          <p:nvPr/>
        </p:nvSpPr>
        <p:spPr>
          <a:xfrm>
            <a:off x="4038480" y="5257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C:\Users\owner\Desktop\sad_jpg_files\22438264X.jpg"/>
          <p:cNvPicPr/>
          <p:nvPr/>
        </p:nvPicPr>
        <p:blipFill>
          <a:blip r:embed="rId2"/>
          <a:stretch/>
        </p:blipFill>
        <p:spPr>
          <a:xfrm>
            <a:off x="4876920" y="533520"/>
            <a:ext cx="3724200" cy="379404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7474320" y="647712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7T01:16:07Z</dcterms:created>
  <dc:creator>owner</dc:creator>
  <dc:description/>
  <dc:language>en-US</dc:language>
  <cp:lastModifiedBy>owner</cp:lastModifiedBy>
  <dcterms:modified xsi:type="dcterms:W3CDTF">2009-04-30T11:15:50Z</dcterms:modified>
  <cp:revision>23</cp:revision>
  <dc:subject/>
  <dc:title>Slide 1</dc:title>
</cp:coreProperties>
</file>